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118-65BA-497D-B260-059E600E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B48-DFC4-4118-9667-10682518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143-A035-4306-88E1-02FBC393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566-AA3A-4D1B-AC61-F64050DA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0C8-8F5E-4738-B8F6-4DFEE0D7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34F-BC56-4924-87A2-3DAF5259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E02-6FBA-4B35-BE35-C3C6C24E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96C-55D1-4375-99F2-3F76F912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D61-DB17-47EC-A827-B7AF5774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25A-FEED-47B8-ADBD-3A50D6F1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A65-C40A-4ADF-B103-A2AF7947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E730-BB67-4E4C-B6AE-86E6781A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F37B-9A5C-4501-B50B-E5C8DD6306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2079720" y="115920"/>
            <a:ext cx="51829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Экономическ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2195640" y="1095480"/>
            <a:ext cx="518292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" Аукцион 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755640" y="3573360"/>
            <a:ext cx="740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Тема: "Рынок труда.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9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5" name="j0212150.wav" descr=""/>
          <p:cNvPicPr/>
          <p:nvPr/>
        </p:nvPicPr>
        <p:blipFill>
          <a:blip r:embed="rId5"/>
          <a:stretch/>
        </p:blipFill>
        <p:spPr>
          <a:xfrm>
            <a:off x="900000" y="565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484360" y="5094360"/>
            <a:ext cx="64087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7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какой формуле измеряется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4360" y="4797360"/>
                <a:ext cx="302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2924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 фразу: «Если фирма стремится максимизировать прибыль, то она должна увеличивать затраты труда до тех пор, по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920" y="5013360"/>
            <a:ext cx="87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ый доход от предельного продукта не сравняется с денежными затратами на не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*M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равна альтернативная стоимость 1 часа дос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8920" y="5013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24000" y="42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положи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58920" y="49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замены, который сокращает часы отдыха и заменяет их часами работы, т.е. дох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отрица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58920" y="49417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дохода, который сокращает часы работы и заменяет их час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400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казывает вертикальная кривая предложения на рынк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8920" y="4797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 дохода полностью компенсирует эффект замены, т.е. они разнонаправленны, но по абсолютной величин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371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рыночное  предложени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5892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объемов предложения труда всех работников при каждой возможн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ставка заработной платы является равно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8920" y="4437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ри сложившемся ее уровне количество людей, желающих получить работу, и число рабочих мест, предлагаемых работодателем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187280" y="2060640"/>
            <a:ext cx="6842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3272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79280" y="2565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по графику равновесную ставку и равновесное количество зан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1908000" y="4076640"/>
            <a:ext cx="4105440" cy="2782800"/>
            <a:chOff x="1908000" y="4076640"/>
            <a:chExt cx="4105440" cy="2782800"/>
          </a:xfrm>
        </p:grpSpPr>
        <p:sp>
          <p:nvSpPr>
            <p:cNvPr id="166" name="Line 9"/>
            <p:cNvSpPr/>
            <p:nvPr/>
          </p:nvSpPr>
          <p:spPr>
            <a:xfrm flipV="1">
              <a:off x="2627280" y="4292280"/>
              <a:ext cx="0" cy="20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2627280" y="6381720"/>
              <a:ext cx="3024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2627280" y="407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руб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507672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(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349236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>
              <a:off x="3059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3851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421164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4643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2843280" y="4724280"/>
              <a:ext cx="252072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2916360" y="4508640"/>
              <a:ext cx="1655640" cy="15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363528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771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327672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3995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6"/>
            <p:cNvSpPr/>
            <p:nvPr/>
          </p:nvSpPr>
          <p:spPr>
            <a:xfrm>
              <a:off x="4427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2484360" y="4941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2484360" y="5373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2484360" y="5877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2484360" y="450864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3"/>
            <p:cNvSpPr/>
            <p:nvPr/>
          </p:nvSpPr>
          <p:spPr>
            <a:xfrm>
              <a:off x="1908000" y="5661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4"/>
            <p:cNvSpPr/>
            <p:nvPr/>
          </p:nvSpPr>
          <p:spPr>
            <a:xfrm>
              <a:off x="1908000" y="51577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1908000" y="4724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1908000" y="429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38"/>
          <p:cNvSpPr/>
          <p:nvPr/>
        </p:nvSpPr>
        <p:spPr>
          <a:xfrm>
            <a:off x="6516720" y="472428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50 руб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0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ичины различий в уровнях оплаты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главные факторы, определяющие уровень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8920" y="4437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ость труда, тягость труда, ограниченность талантов, степень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ойте понятие рынка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овокупность экономических и юридических процедур, позволяющих людям обменивать свои трудовые услуги на заработную п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пределяется заработная плата рабочих, объединенных в профсою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58920" y="443700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равновесием между спросом и предложением, а коллективным договором между профсоюзом и фи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187280" y="2133720"/>
            <a:ext cx="6842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5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280" y="270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сты считают, что профсоюзы могут стать источником инфляции. Так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0" y="450864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ышение з/п не сопровождается ростом производительности труда, то издержки фирмы возрастают, т.е. возникает инфляция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безрабо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468360" y="4581360"/>
                <a:ext cx="7920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безработицы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езработн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занят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749160" y="4581360"/>
                <a:ext cx="7356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занятости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занят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иды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8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, структурная, циклическая, сез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2997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безработный бухгалтер, уволившийся из-за сложных отношений с директором и ищущий работу по специ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292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стеклодувы, которые много лет тому назад остались без работы из-за изобретения специальных станков для изготовления буты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55640" y="58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рабочие обувной фабрики, уволенные из-за кризи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ическ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2997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владелец водных аттракционов на Черном море в декаб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з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виды безработицы составляют естественный уровень безработ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75564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и 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собенность рынка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 и покупатели меняются местами: покупателями услуг труда являются фирмы, а продавцами – люди, предлагающие эт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зывается экономическим потенциалом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55640" y="5157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оизводства товаров и услуг при полной занятости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9280" y="2997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редполагает полная занятость ресур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6836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груженные производственные мощности на уровне 10-20% и естественный уровень безработицы на уровне 5,5-6,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ab7c15776273314921002d29fb57d9f1"/>
          <p:cNvPicPr/>
          <p:nvPr/>
        </p:nvPicPr>
        <p:blipFill>
          <a:blip r:embed="rId1"/>
          <a:stretch/>
        </p:blipFill>
        <p:spPr>
          <a:xfrm>
            <a:off x="6012000" y="3141720"/>
            <a:ext cx="2268360" cy="25970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 flipH="1">
            <a:off x="324000" y="260280"/>
            <a:ext cx="4465440" cy="4176720"/>
          </a:xfrm>
          <a:prstGeom prst="cloudCallout">
            <a:avLst>
              <a:gd name="adj1" fmla="val -90634"/>
              <a:gd name="adj2" fmla="val 35898"/>
            </a:avLst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1042920" y="981000"/>
            <a:ext cx="338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Monotype Corsiva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pic>
        <p:nvPicPr>
          <p:cNvPr id="285" name="j0212430.wav" descr=""/>
          <p:cNvPicPr/>
          <p:nvPr/>
        </p:nvPicPr>
        <p:blipFill>
          <a:blip r:embed="rId8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474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280" y="429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278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родается и покупается на рынке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8920" y="5229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является ценой услуг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58920" y="450864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ка заработной платы, т.е. заработная плата работников за 1 час отработа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монопсо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нок одного покупателя, когда он влияет на формирование цен в большей степени, чем остальные учас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кривая спроса фирмы на услуги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8920" y="5013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количество покупаемых услуг труда в зависимости от изменения ставки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вучит закон спроса для рынка 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плата, которую работники требуют за свой труд, тем меньше их число готовы нанять работо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общий продукт труда при изменении трудозатрат на одну единицу и при прочих рав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4T11:22:59Z</dcterms:modified>
  <cp:revision>49</cp:revision>
  <dc:subject/>
  <dc:title>Основы компьютерной графики</dc:title>
</cp:coreProperties>
</file>